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F89C-69CE-4263-A7CE-0933C675170E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0770-5A77-43AA-8A42-464C9F8C1D7A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chiedene Ansichten von Ontologi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zter Punkt: Kategorie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 ist für uns vor allem interessan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D392-490C-486B-8156-DB14CF0EA9C2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-weight ontology model. Basically knows classes and properties . Partial order on inheritance so we can express equivalence by cyclic inheritance hierarchy. Pretty much OO like, so to say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ive schema. So edges may be there that have never been declared as a property, also edges that have been declared might not be used for some object. We don‘t have to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l Nulls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are defined on their ow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consider storage we can have unary predicates for class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(x:Employee) and unary predicates for class membership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, which of course leads to duplicates x:Employee(x:Raphael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are attributes and associations to speak in OO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on‘t belong to the class, instead they are first class entit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6840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possibly have (mulitple) domains and ranges, thus a property can validly be applied to any member of a class in it‘s domain and can point to any member of a class in it‘s range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97803-1FAF-4F57-94F3-475BB9C094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399A2-9F01-4303-8E73-EBD4162E45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9FD81-E6A5-42D5-98F1-EEA8817F40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C4DFE-1C02-44E0-BDB7-6027FDF19E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B2DF-972F-44E4-8968-7C5302332D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24526-6980-464E-BE57-9AE2A6351A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E6887-1D8B-4599-BF33-2A8774F2B2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818F6-6BA4-446D-AB60-D3C1AF3F30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8FA62-4B32-45D3-BECB-7A9552204D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A969-ACF9-4ECD-AE0C-E9D96D4B59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DC38D-C6DF-451D-BD26-BBC2AC6AD1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898A8-4013-49CB-9B9F-DE2AD69F69A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bffff"/>
              </a:gs>
              <a:gs pos="100000">
                <a:srgbClr val="f200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12712320" y="9423000"/>
            <a:ext cx="343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DA8E-D38A-401B-BC82-517CC04DFE7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hyperlink" Target="http://www.semantic-web-grundlagen.de/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9/10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5" name="Picture 7" descr=""/>
          <p:cNvPicPr/>
          <p:nvPr/>
        </p:nvPicPr>
        <p:blipFill>
          <a:blip r:embed="rId1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A386-87D3-4D86-9E4D-7CB30FBA1DF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7693-0749-420C-89B8-25F38F50CE6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355680" y="2514240"/>
            <a:ext cx="12344400" cy="7124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3C Recommendation seit 2004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Semantisches Fragment von FO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rei Variante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WL Lite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OWL DL </a:t>
            </a:r>
            <a:r>
              <a:rPr b="0" lang="en-US" sz="3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OWL Ful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eine Reifikation in OWL DL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➔ RDFS ist Fragment von OWL Full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OWL DL ist entscheidba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ntspricht der Beschreibungslogik </a:t>
            </a:r>
            <a:r>
              <a:rPr b="0" lang="en-US" sz="3400" spc="-1" strike="noStrike">
                <a:solidFill>
                  <a:srgbClr val="000000"/>
                </a:solidFill>
                <a:latin typeface="cmbsy10"/>
              </a:rPr>
              <a:t>SHOI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(D) 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W3C-Dokumente (Vorlesungswebseite) enthalten Details, die hier nicht alle angesprochen werden können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0" name="Rectangle 2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- Allgemeines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94B1-8E5D-418A-A2F4-63BD73EFEDC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73120" y="444600"/>
            <a:ext cx="1104912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Varia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7776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Ful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DL und 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als einzige OWL-Teilsprache ganz RDF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mantik enthält einige Aspekte, die aus logischem Blickwinkel problematisch sind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durch aktuelle Softwarewerkzeuge nur bedingt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D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Lite und ist Teilsprache von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von aktuellen Softwarewerkzeugen fast vollständig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N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st Teilsprache von OWL DL und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enig ausdrucksstark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781D-624D-4377-838A-4F783E3D3DC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Dokumen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nd RDF Dokumente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zumindest in der Standard-Syntax; es gibt auch andere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stehen au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opf mit allgemeinen Angab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st mit der eigentlichen Ontologi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7716-8EC6-4E30-B73A-7C6D09361D7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0840" y="2285640"/>
            <a:ext cx="130050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 von Namespaces in der Wurz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RDF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semanticweb-grundlagen.de/beispielontologie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rd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1999/02/22-rdf-syntax-ns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xs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1/XMLSchema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rdf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0/01/rdf-schema#"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mlns:ow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="http://www.w3.org/2002/07/owl#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RD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92A3-E80F-4E80-A7AE-219C6546087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3634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gemeine Informationen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tology rdf:about="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com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datatype="http://www.w3.org/2001/XMLSchema#string“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WRC Ontologie in der Version vom Dezember 2005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comment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versionInfo&gt;v0.5&lt;/owl:versionInfo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imports rdf:resource="http://www.semanticweb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grundlagen.de/foo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priorVersi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http://ontoware.org/projects/swrc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tology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FBFF-ADB2-490E-AD1F-ABC1D3A033E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Kopf eines OWL Dokumente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461016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on RDFS geerb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om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labe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eeA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isDefinedB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ußerdem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mpor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6197760" y="2316240"/>
            <a:ext cx="6451560" cy="38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ür Versionieru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versionInf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priorVer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backwardCompatibleWi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compatibleWi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Cla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Proper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CB70-571B-4EAB-90A1-459AAC9AFA2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03B0-3900-42F8-8022-8E16626D4E4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, Rollen und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e drei Bausteine von Ontologieaxiom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Klassen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Objekten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gleichbar mit Properties in RDF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3091-07D8-4F52-94DC-CF4745B3A03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ordefiniert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lvl="2" marL="11826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687240" y="3683160"/>
          <a:ext cx="6070680" cy="548316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XM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für OW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tology Engineer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70080" y="1638000"/>
            <a:ext cx="11175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OWL - Syntax &amp; Intuition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8" name="Picture 12" descr=""/>
          <p:cNvPicPr/>
          <p:nvPr/>
        </p:nvPicPr>
        <p:blipFill>
          <a:blip r:embed="rId2"/>
          <a:srcRect l="33175" t="42792" r="44279" b="39723"/>
          <a:stretch/>
        </p:blipFill>
        <p:spPr>
          <a:xfrm>
            <a:off x="8940960" y="5829480"/>
            <a:ext cx="965160" cy="77436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63"/>
          <p:cNvSpPr/>
          <p:nvPr/>
        </p:nvSpPr>
        <p:spPr>
          <a:xfrm>
            <a:off x="647640" y="5791320"/>
            <a:ext cx="6108840" cy="431640"/>
          </a:xfrm>
          <a:prstGeom prst="rect">
            <a:avLst/>
          </a:prstGeom>
          <a:noFill/>
          <a:ln w="88920">
            <a:solidFill>
              <a:srgbClr val="cc0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Rectangle 64"/>
          <p:cNvSpPr/>
          <p:nvPr/>
        </p:nvSpPr>
        <p:spPr>
          <a:xfrm>
            <a:off x="0" y="9461520"/>
            <a:ext cx="14630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entspricht Kapitel 5 des Buches „Semantic Web - Grundlagen“ - siehe auch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Helvetica Neue"/>
                <a:hlinkClick r:id="rId3"/>
              </a:rPr>
              <a:t>http://www.semantic-web-grundlagen.de/index.php/Kapitel_5</a:t>
            </a:r>
            <a:r>
              <a:rPr b="0" lang="en-US" sz="15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Rectangle 65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97168" presetSubtype="788205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 presetSubtype="9335446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EB6A-F09A-4CFE-AA4C-85C7F905D51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finition durch Klassenzugehörigkei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ID="RudiStuder"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#Professor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leichbedeutend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2" marL="16826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fessor rdf:ID="RudiStuder"/&gt;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A334-31B9-404A-8526-B56F6E069AA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bstrakte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66800" y="2387160"/>
            <a:ext cx="11880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strakte Rollen werden definiert wi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ID="Zugehoerigkeit"/&gt;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omain und Range abstrakter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Organis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6594-CBE5-4EB0-A8D0-2C83147FDA3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onkrete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70040" y="2387520"/>
            <a:ext cx="11874240" cy="882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konkrete Rollen haben Datentypen im Range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	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atatypeProperty rdf:ID="Vorname"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Domain und Range konkreter Rollen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atatypeProperty rdf:ID="Vorname"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 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  rdf:resource="&amp;xsd;string"/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lvl="1" marL="1114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DatatypeProperty&gt;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Viele XML Datentypen können verwendet werden.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Im Standard vorgeschrieben si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70D4-C0CE-443C-A997-4DC178E0805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98320" y="99720"/>
            <a:ext cx="11048760" cy="212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 und Roll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61600" y="2417400"/>
            <a:ext cx="11876040" cy="73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ID="Rudi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AIFB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ontoprise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orname rdf:datatype="&amp;xsd;string"&gt;Rudi&lt;/Vo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 sind im allgemeinen nicht funktional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3CCA-2CDD-4838-BB39-6C4A04EF98E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FDAD-4CA6-47D9-88FE-1D0D2286608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390320" y="2387160"/>
            <a:ext cx="11055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Fakultaetsmitglie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eine Subklasse von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07CD-6E67-4B5E-8779-69B4ACB8420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29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Fakultaetsmitglie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jointWith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Buch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ebenfalls disjunkte Klassen sind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F70E-1137-4937-872E-14C5203F550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66640" y="2133360"/>
            <a:ext cx="11055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ublika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Clas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Public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2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Buch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eine Subklasse von </a:t>
            </a:r>
            <a:r>
              <a:rPr b="0" lang="en-US" sz="33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ation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2612-4465-4BA4-93DD-71E7501C79A8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Individuen und Klass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49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uch rdf:ID="SemanticWebGrundlage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PascalHitzl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MarkusKrötzsch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SebastianRudolph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tor rdf:resource="#YorkSure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uch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SemanticWebGrundlage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eine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kation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631E-96B3-44BA-8A0A-D97994A9A2D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85720" y="495360"/>
            <a:ext cx="1104876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ziehungen zwischen Individu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70172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fessor rdf:ID="RudiStuder"/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Description rdf:about="#RudiStuder"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ameAs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ProfessorStuder"/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:Description&gt;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folgt durch Inferenz, dass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Stude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ein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esso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ist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Verschiedenheit von Individuen mittels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66C3-F85F-4829-B28B-33471C2DF791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74E5-44E7-4B30-888F-1F42FD81D80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1625400" y="2007720"/>
            <a:ext cx="1104876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AllDifferent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tinctMembers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arseType="Collection"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RudiStuder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YorkSure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PascalHitzler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distinctMembers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AllDifferent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Abgekürzte Schreibweise anstelle der Verwendung von mehrer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r Einsatz v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Different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u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tinctMembers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 ist nur dafür vorgeseh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1486080" y="495360"/>
            <a:ext cx="110487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ziehungen zwischen Individu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9714-98BB-433C-9E93-486FA46AFF7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bgeschlossene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62576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Von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ne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GiselaSchilling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about="#BeateKuehn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e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es besagt, dass es nur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genau diese beid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VonStuder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gib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7C26-7214-4B05-8328-BC2CDDEE16C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5AE9-5220-4B7F-8E29-80E28E9B9E3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49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ogische Klassenkonstruktor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Und (Konjunk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Oder (Disjunk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ogisches Nicht (Negation)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rden verwendet, um komplexe Klassen aus einfachen Klassen zu konstruieren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4972-8AAF-40E6-AC57-F12CA1A06B7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onjunk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67652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VonStuder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&gt;   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Sekretaerinnen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AngehoerigeAGStud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intersection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s folgt z.B. durch Inferenz, dass alle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VonStuder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auch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Sekretaerinnen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sind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88C4-D9C3-4102-B474-0B8967B95E5E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isjunk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523520" y="2019240"/>
            <a:ext cx="1153188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ofesso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parseType="Collection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aktivLehren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imRuhestand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union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BDE7-45B7-4420-ABB1-A8C566DB021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Neg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71640" y="2387160"/>
            <a:ext cx="11571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mantisch äquivalente Aussag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Fakultaetsmitglied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jointWith rdf:resource="#Publik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B841-9085-42D8-A50C-422DD373C854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8572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allValuesFrom)</a:t>
            </a:r>
            <a:endParaRPr b="0" lang="en-US" sz="57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331640" y="1828440"/>
            <a:ext cx="11876040" cy="8636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ienen der Definition komplexer Klassen durch Rollen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ValuesFro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rofesso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.h.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alle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Prüfer einer Prüfung müssen Professoren sei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79A1-4E60-4E31-B0D3-F1E562D5EB1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950760" y="1752120"/>
            <a:ext cx="11876400" cy="76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6000"/>
          </a:bodyPr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omeValuesFrom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Pers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227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.h. jede Prüfung muss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mindestens einen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Prüfer hab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someValuesFrom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AA02-D5F0-4EC6-B29F-CCEA006ECFC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863640" y="2412720"/>
            <a:ext cx="12877920" cy="764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axCardinalit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datatype="&amp;xsd;nonNegativeInteg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maxCardinali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ine Prüfung kann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höchstens zwei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Prüfer haben.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1C19-969E-46AD-A809-3F8E1BB7159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82B8-0E70-4C95-A689-226A19762123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DC75-91F5-408F-AB8E-C903676E9A4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1026720" y="2338560"/>
            <a:ext cx="1187604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Thema"/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inCardinality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datatype="&amp;xsd;nonNegativeInteger"&gt;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minCardinality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Eine Prüfung muss sich über </a:t>
            </a:r>
            <a:r>
              <a:rPr b="0" i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mindestens drei</a:t>
            </a: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 Themengebiete erstrecken.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9368-E8E5-41E3-B31E-47ECE7AAD6A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1331640" y="2109960"/>
            <a:ext cx="1187604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Pruefung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Thema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ardinalit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datatype="&amp;xsd;nonNegativeInteger"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ardinali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Eine Prüfung muss sich über </a:t>
            </a:r>
            <a:r>
              <a:rPr b="0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genau drei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Themengebiete erstreck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(Kardinalitäten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A2A7-9B2C-45D7-BD53-A0F86ABFD6BF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1396800" y="1980720"/>
            <a:ext cx="11876040" cy="76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BeiStud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df:resource="#RudiStuder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equivalent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3352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 verweist immer auf eine konkrete Instanz. Dies ist äquivalent zum Beispiel auf der nächsten Folie.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</a:t>
            </a: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(hasValue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1ED2-A10C-4701-89D7-076FC516270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1636560" y="1804680"/>
            <a:ext cx="11876400" cy="886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ID="PruefungBeiStuder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hatPruef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omeValuesFrom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eOf rdf:parseType="Collection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Thing rdf:about="#RudiStuder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neOf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someValuesFrom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equivalent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8" name="Rectangle 2"/>
          <p:cNvSpPr/>
          <p:nvPr/>
        </p:nvSpPr>
        <p:spPr>
          <a:xfrm>
            <a:off x="1486080" y="-49320"/>
            <a:ext cx="1104876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Rolleneinschränkungen </a:t>
            </a:r>
            <a:br>
              <a:rPr sz="5700"/>
            </a:br>
            <a:r>
              <a:rPr b="0" lang="en-US" sz="5700" spc="-1" strike="noStrike">
                <a:solidFill>
                  <a:srgbClr val="000000"/>
                </a:solidFill>
                <a:latin typeface="Bodoni SvtyTwo SC ITC TT-Book"/>
              </a:rPr>
              <a:t>(hasValue)</a:t>
            </a:r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24DE-BA4E-4272-AEB1-68E4CEEAB5A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BF32-13D1-4BF8-8994-04B37BCD0F1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752120" y="2260440"/>
            <a:ext cx="1153188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uef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Property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"#hatAnwesend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benso: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 owl:equivalentProperty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 können auch invers zueinander sei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uefer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inverseOf rdf:resource="#prueferV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15D0-24CE-4F54-9457-42F5EDB8F70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eigenschaf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Domain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ange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Transitivität, d.h.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b,c) impliziert r(a,c)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Symmetrie, d.h.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impliziert r(b,a)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Funktionalität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a,c) impliziert b=c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Inverse Funktionalität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Helvetica Neue"/>
              </a:rPr>
              <a:t>r(a,b) und r(c,b) impliziert a=c</a:t>
            </a: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4B9A-9CA9-44EE-A5F0-AC7AB310F7E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536480" y="317520"/>
            <a:ext cx="1104876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omain und Rang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777680" y="1828440"/>
            <a:ext cx="12649320" cy="807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range rdf:resource="#Organisation"/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st gleichbedeutend mit dem Folgende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\&amp;owl;Thing"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subClassO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Restriction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nProperty rdf:resource="#Zugehoerigkeit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allValuesFrom rdf:resource="#Organisation"/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Restriction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dfs:subClassOf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6668-AF81-4A3E-8FA0-A220B7475EF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650960" y="355680"/>
            <a:ext cx="1104912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omain und Range: Vorsicht!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838160" y="2109960"/>
            <a:ext cx="11674800" cy="764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Zugehoerigkeit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s:range rdf:resource="#Organisatio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ahl rdf:ID="Fuenf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Zugehoerigkeit rdf:resource="#Primzahlen"/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Zahl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s folgt nun, dass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zahle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eine Organisation ist!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3D1A-280E-4307-B31A-9E206076D0C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Rectangle 1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olleneigenschaft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2"/>
          <p:cNvSpPr/>
          <p:nvPr/>
        </p:nvSpPr>
        <p:spPr>
          <a:xfrm>
            <a:off x="1587600" y="2022480"/>
            <a:ext cx="10909080" cy="74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Kollegen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Transitive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Symmetric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hatProjektleiter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Functional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ObjectProperty rdf:ID="istProjektleiterFuer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df:type rdf:resource="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owl;InverseFunctionalPropert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ObjectProperty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erson rdf:ID="YorkSure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Kollegen rdf:resource="#PascalHitzle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Kollegen rdf:resource="#AnupriyaAnkoleka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stProjektleiterFuer rdf:resource="#SEKT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erson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jekt rdf:ID="SmartWeb"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Projektleiter rdf:resource="#PascalHitzler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atProjektleiter rdf:resource="#HitzlerPascal"/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3826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rojekt&gt;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14DB-7B6F-4BF7-B325-5ED44ABA353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073160" y="1803240"/>
            <a:ext cx="11049120" cy="7950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griff existiert nur in der Einzahl (es gibt also keine „Ontologien“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zeichnet die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„Lehre vom Sein“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 finden bei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Aristoteles (Sokrates), Thomas von Aquin, Descartes, Kant, Hegel, Wittgenstein, Heidegger, Quine, ..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ntologie –philosophisch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2201-B681-42FE-A170-2CB40C38EA6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Folgerungen aus dem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55680" y="2387160"/>
            <a:ext cx="122918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AnupriyaAnkolekar hatKollegen YorkSur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AnupriyaAnkolekar hatKollegen PascalHitzle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  <a:ea typeface="Courier New"/>
              </a:rPr>
              <a:t>PascalHitzler owl:sameAs HitzlerPasca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7555-00C8-4E6D-83B5-33285017D4F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BA86-98B0-4FC2-A796-582DFF2AE42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73120" y="444600"/>
            <a:ext cx="1104912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Varian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77760" y="2007720"/>
            <a:ext cx="11049120" cy="77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Ful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DL und 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als einzige OWL-Teilsprache ganz RDFS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Semantik enthält einige Aspekte, die aus logischem Blickwinkel problematisch sind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Un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durch aktuelle Softwarewerkzeuge nur bedingt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DL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hält OWL Lite und ist Teilsprache von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ird von aktuellen Softwarewerkzeugen fast vollständig unterstützt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N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OWL Lite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Ist Teilsprache von OWL DL und OWL Full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Wenig ausdrucksstark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Komplexität ExpTime (worst-case).</a:t>
            </a: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1EA5-7713-422B-B50A-008A148330E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Ful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894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eingeschränkte Nutzung aller OWL und RDFS-Sprachelemente (muss gültiges RDFS sein)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chwierig z.B.: nicht vorhandene Typentrennung (Klassen, Rollen, Individuen), dadurch: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esource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lass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las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atatypeProperty 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Subklasse von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 dasselbe wie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2228-2210-434F-AC2E-2B45A2CF040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36840" y="13932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Bodoni SvtyTwo SC ITC TT-Book"/>
              </a:rPr>
              <a:t>Beispiel für Typendurchmischung 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Bodoni SvtyTwo SC ITC TT-Book"/>
              </a:rPr>
              <a:t>in OWL Full</a:t>
            </a:r>
            <a:endParaRPr b="0" lang="en-US" sz="5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60020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glischerName rdf:datatype="&amp;xsd;stri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englische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ranzoesischerName rdf:datatype="&amp;xsd;string"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livr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ranzoesischerName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ferenzen über solche Konstrukte werden oft nicht wirklich benötig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D13D-125E-4747-996D-6F842C9759C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D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Nur Verwendung von explizit erlaubten RDFS Sprachelementen (z.B. die in unseren Beispielen).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Nicht erlaubt: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lass</a:t>
            </a: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, </a:t>
            </a:r>
            <a:r>
              <a:rPr b="0" lang="en-US" sz="37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Property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Typentrennung. Klassen und Rollen müssen explizit deklarier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Konkrete Rollen dürfen nicht als transitiv, symmetrisch, invers oder invers funktional deklarier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Zahlenrestriktionen dürfen nicht mit transitiven Rollen, deren Subrollen, oder Inversen davon verwendet werden.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3720-777A-48FB-84A4-AE570285D92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Li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e Einschränkungen für OWL D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ußerdem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icht erlaubt: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oneOf, unionOf, complementOf, hasValue, disjointWit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ahlenrestriktionen nur mit 0 und 1 erlaub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ige Einschränkungen zum Auftreten von anonymen (komplexen) Klassen, z.B. nur im Subjekt von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C3A5-AC31-4B51-879E-70C1428C7347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- Allgemein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, Rollen und Individu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omplexe Kla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genschaften von Roll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WL Varian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cc0006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6"/>
                </a:solidFill>
                <a:latin typeface="Helvetica Neue"/>
              </a:rPr>
              <a:t>Anfragen an OWL-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90FA-1D40-4C10-864B-B6153B1F6346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486080" y="25200"/>
            <a:ext cx="1127736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Terminologische Anfragen an OWL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(nur Klassen und Rollen)</a:t>
            </a:r>
            <a:endParaRPr b="0" lang="en-US" sz="55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5682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Klassenäquivalenz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Subklassenbeziehung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Disjunktheit von Klassen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globale Konsistenz (Erfüllbarkeit, Widerspruchsfreiheit)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70840" indent="-5598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Klassenkonsistenz: Eine Klasse i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konsistent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, wenn sie äquivalent zu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st - dies deutet oft auf einen Modellierungsfehler hin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Class rdf:about="#Buch"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subClassOf rdf:resource="#Publikation"/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wl:disjointWith rdf:resource="#Publikation"/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10922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wl:Class&gt;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1D52-18D2-4EA8-83C8-4CC79F00056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36840" y="12600"/>
            <a:ext cx="11277360" cy="176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Assertionale Anfragen an OWL </a:t>
            </a:r>
            <a:br>
              <a:rPr sz="5500"/>
            </a:br>
            <a:r>
              <a:rPr b="0" lang="en-US" sz="5500" spc="-1" strike="noStrike">
                <a:solidFill>
                  <a:srgbClr val="000000"/>
                </a:solidFill>
                <a:latin typeface="Bodoni SvtyTwo SC ITC TT-Book"/>
              </a:rPr>
              <a:t>(mit Individuen)</a:t>
            </a:r>
            <a:endParaRPr b="0" lang="en-US" sz="55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7721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Instanzüberprüfung: Gehört gegebenes Individuum zu gegebener Klass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Suche nach allen Individuen, die in einer Klasse enthalten sind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Werden zwei gegebene Individuen durch Rolle verknüpft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Suche nach allen Individuenpaaren, die durch eine Rolle verknüpft sind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...Vorsicht: es wird nur nach „beweisbaren“ Antworten gesucht!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E1B5-BCBC-4E4B-AEFE-A20BE34EF1D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8572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ntologie – informatisch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79360" y="2146320"/>
            <a:ext cx="11049120" cy="769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uber (1993):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„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 Ontology is a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formal specific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 a 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shared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conceptualiz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 a </a:t>
            </a:r>
            <a:r>
              <a:rPr b="0" lang="en-US" sz="4200" spc="-1" strike="noStrike">
                <a:solidFill>
                  <a:srgbClr val="006600"/>
                </a:solidFill>
                <a:latin typeface="Helvetica Neue"/>
              </a:rPr>
              <a:t>domain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of interest“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321600" y="4506840"/>
            <a:ext cx="66801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schinell interpretierba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ruht auf Konse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schreibt Begrifflichkeite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2599"/>
              </a:spcBef>
              <a:buClr>
                <a:srgbClr val="000000"/>
              </a:buClr>
              <a:buFont typeface="Symbol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zogen auf ein „Thema“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 (Gegenstandsbereich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75A0-A4C7-4F4A-A26E-AAA9E97FF49A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Werkzeug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359000" y="2082960"/>
            <a:ext cx="12191760" cy="8089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Editoren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Protegé, http://protege.stanford.edu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SWOOP, http://www.mindswap.org/2004/SWOOP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OWL Tools, http://owltools.ontoware.org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Inferenzmaschinen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Pellet, http://www.mindswap.org/2003/pellet/index.shtml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KAON2, http://kaon2.semanticweb.org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FACT++, http://owl.man.ac.uk/factplusplus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Racer, http://www.racer-systems.com/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elvetica Neue"/>
              </a:rPr>
              <a:t>Cerebra, http://www.cerebra.com/index.html</a:t>
            </a:r>
            <a:endParaRPr b="0" lang="en-US" sz="29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ECB1-FACF-4074-9E52-0B7B4E266E85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38E8-B307-4D22-8655-6A80068E9322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355320" y="2315880"/>
            <a:ext cx="6553080" cy="743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Kop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com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labe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eeA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isDefinedB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versionInf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priorVers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backwardCompatible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compatible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eprecated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mpor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6707160" y="2109960"/>
            <a:ext cx="542304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ziehungen zwischen Individu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ame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fferent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Differ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zusammen mi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owl:distinctMe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rgeschriebene Datentyp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sd:stro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xsd:integ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F466-17ED-45FA-BC4B-556E81C1184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42304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Klassenkonstruktoren und -beziehunge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Th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Noth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Class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isjointWi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Clas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tersection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union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omplement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6616800" y="2387520"/>
            <a:ext cx="542268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44680" indent="-54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enrestriktio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allValues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someValues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hasVal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in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maxCardi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4680" indent="-544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ne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9174-1283-4018-AF6A-6FF8F6123C89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665280" y="2214360"/>
            <a:ext cx="11672640" cy="753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44680" indent="-4874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ollenkonstruktoren, -beziehungen und -eigenschaf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Object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Datatype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subProperty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equivalentProper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:inverseOf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domai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s:rang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Transitive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Symmetric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Functional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44680" indent="-487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df:resource=“&amp;owl;InverseFunctionalProperty“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1" name="Rectangle 2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WL Sprachelement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BBF8-8BA0-465F-9300-170E3740CD2C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Weiterführende Literatu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77400" y="2387160"/>
            <a:ext cx="1177308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2004/OWL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ntrale W3C Webseite für OWL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feature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Überblick über OWL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ref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vollständige Beschreibung der OWL-Sprachkomponent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guide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zeigt, wie OWL zur Wissensmodellierung verwendet werden kan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TR/owl-semantic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beschreibt die Semantik von OWL, die wir auf andere Weise später behandeln werden. Es beschreibt außerdem die abstrakte Syntax für OWL DL, die wir hier später noch ansprechen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Deutsche Übersetzungen mancher W3C Dokumente findet man un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w3.org/2005/11/Translations/Lists/ListLang-de.htm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7B3A-3F1A-4F47-A9B2-54EBC5E02120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11280" y="-318960"/>
            <a:ext cx="11049120" cy="205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Bodoni SvtyTwo SC ITC TT-Book"/>
              </a:rPr>
              <a:t>Ontologie – praktisch</a:t>
            </a:r>
            <a:br>
              <a:rPr sz="5600"/>
            </a:br>
            <a:r>
              <a:rPr b="0" lang="en-US" sz="5600" spc="-1" strike="noStrike">
                <a:solidFill>
                  <a:srgbClr val="000000"/>
                </a:solidFill>
                <a:latin typeface="Bodoni SvtyTwo SC ITC TT-Book"/>
              </a:rPr>
              <a:t>Einige Anforderungen</a:t>
            </a:r>
            <a:endParaRPr b="0" lang="en-US" sz="56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990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Instanziierung von Klassen durch Individuen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griffshierarchien (Taxonomien, „Vererbung“):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lassen, Begriffe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inäre Relationen zwischen Individuen: Properties, Roles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igenschaften von Relationen (z.B. range, transitive)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tentypen (z.B. Zahlen): concrete domains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logische Ausdrucksmitte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lare Semantik!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9F28-5BF1-44E9-A685-8645AF75E4AD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9" name="Group 1"/>
          <p:cNvGrpSpPr/>
          <p:nvPr/>
        </p:nvGrpSpPr>
        <p:grpSpPr>
          <a:xfrm>
            <a:off x="190440" y="4241880"/>
            <a:ext cx="1625760" cy="546120"/>
            <a:chOff x="190440" y="4241880"/>
            <a:chExt cx="1625760" cy="546120"/>
          </a:xfrm>
        </p:grpSpPr>
        <p:sp>
          <p:nvSpPr>
            <p:cNvPr id="390" name="Oval 2"/>
            <p:cNvSpPr/>
            <p:nvPr/>
          </p:nvSpPr>
          <p:spPr>
            <a:xfrm>
              <a:off x="190440" y="424188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Rectangle 3"/>
            <p:cNvSpPr/>
            <p:nvPr/>
          </p:nvSpPr>
          <p:spPr>
            <a:xfrm>
              <a:off x="416520" y="4348800"/>
              <a:ext cx="1178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rofess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2" name="Group 4"/>
          <p:cNvGrpSpPr/>
          <p:nvPr/>
        </p:nvGrpSpPr>
        <p:grpSpPr>
          <a:xfrm>
            <a:off x="1282680" y="3048120"/>
            <a:ext cx="1625760" cy="546120"/>
            <a:chOff x="1282680" y="3048120"/>
            <a:chExt cx="1625760" cy="546120"/>
          </a:xfrm>
        </p:grpSpPr>
        <p:sp>
          <p:nvSpPr>
            <p:cNvPr id="393" name="Oval 5"/>
            <p:cNvSpPr/>
            <p:nvPr/>
          </p:nvSpPr>
          <p:spPr>
            <a:xfrm>
              <a:off x="1282680" y="304812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Rectangle 6"/>
            <p:cNvSpPr/>
            <p:nvPr/>
          </p:nvSpPr>
          <p:spPr>
            <a:xfrm>
              <a:off x="1481400" y="315504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5" name="Group 7"/>
          <p:cNvGrpSpPr/>
          <p:nvPr/>
        </p:nvGrpSpPr>
        <p:grpSpPr>
          <a:xfrm>
            <a:off x="5931000" y="4013280"/>
            <a:ext cx="1625400" cy="546120"/>
            <a:chOff x="5931000" y="4013280"/>
            <a:chExt cx="1625400" cy="546120"/>
          </a:xfrm>
        </p:grpSpPr>
        <p:sp>
          <p:nvSpPr>
            <p:cNvPr id="396" name="Oval 8"/>
            <p:cNvSpPr/>
            <p:nvPr/>
          </p:nvSpPr>
          <p:spPr>
            <a:xfrm>
              <a:off x="5931000" y="4013280"/>
              <a:ext cx="162540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7" name="Rectangle 9"/>
            <p:cNvSpPr/>
            <p:nvPr/>
          </p:nvSpPr>
          <p:spPr>
            <a:xfrm>
              <a:off x="6012360" y="4132800"/>
              <a:ext cx="1471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hD-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98" name="Group 10"/>
          <p:cNvGrpSpPr/>
          <p:nvPr/>
        </p:nvGrpSpPr>
        <p:grpSpPr>
          <a:xfrm>
            <a:off x="4203720" y="3048120"/>
            <a:ext cx="1625760" cy="546120"/>
            <a:chOff x="4203720" y="3048120"/>
            <a:chExt cx="1625760" cy="546120"/>
          </a:xfrm>
        </p:grpSpPr>
        <p:sp>
          <p:nvSpPr>
            <p:cNvPr id="399" name="Oval 11"/>
            <p:cNvSpPr/>
            <p:nvPr/>
          </p:nvSpPr>
          <p:spPr>
            <a:xfrm>
              <a:off x="4203720" y="304812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0" name="Rectangle 12"/>
            <p:cNvSpPr/>
            <p:nvPr/>
          </p:nvSpPr>
          <p:spPr>
            <a:xfrm>
              <a:off x="4510440" y="3155040"/>
              <a:ext cx="1009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01" name="Group 13"/>
          <p:cNvGrpSpPr/>
          <p:nvPr/>
        </p:nvGrpSpPr>
        <p:grpSpPr>
          <a:xfrm>
            <a:off x="2577960" y="3911760"/>
            <a:ext cx="1625760" cy="546120"/>
            <a:chOff x="2577960" y="3911760"/>
            <a:chExt cx="1625760" cy="546120"/>
          </a:xfrm>
        </p:grpSpPr>
        <p:sp>
          <p:nvSpPr>
            <p:cNvPr id="402" name="Oval 14"/>
            <p:cNvSpPr/>
            <p:nvPr/>
          </p:nvSpPr>
          <p:spPr>
            <a:xfrm>
              <a:off x="2577960" y="391176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3" name="Rectangle 15"/>
            <p:cNvSpPr/>
            <p:nvPr/>
          </p:nvSpPr>
          <p:spPr>
            <a:xfrm>
              <a:off x="2998080" y="4018680"/>
              <a:ext cx="782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Tut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04" name="Group 16"/>
          <p:cNvGrpSpPr/>
          <p:nvPr/>
        </p:nvGrpSpPr>
        <p:grpSpPr>
          <a:xfrm>
            <a:off x="2577960" y="1955880"/>
            <a:ext cx="1625760" cy="546120"/>
            <a:chOff x="2577960" y="1955880"/>
            <a:chExt cx="1625760" cy="546120"/>
          </a:xfrm>
        </p:grpSpPr>
        <p:sp>
          <p:nvSpPr>
            <p:cNvPr id="405" name="Oval 17"/>
            <p:cNvSpPr/>
            <p:nvPr/>
          </p:nvSpPr>
          <p:spPr>
            <a:xfrm>
              <a:off x="2577960" y="1955880"/>
              <a:ext cx="162576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06" name="Rectangle 18"/>
            <p:cNvSpPr/>
            <p:nvPr/>
          </p:nvSpPr>
          <p:spPr>
            <a:xfrm>
              <a:off x="2861640" y="2062800"/>
              <a:ext cx="10551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s:Clas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07" name="AutoShape 19"/>
          <p:cNvSpPr/>
          <p:nvPr/>
        </p:nvSpPr>
        <p:spPr>
          <a:xfrm flipH="1" rot="10800000">
            <a:off x="1002240" y="3525840"/>
            <a:ext cx="507960" cy="6890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20"/>
          <p:cNvSpPr/>
          <p:nvPr/>
        </p:nvSpPr>
        <p:spPr>
          <a:xfrm rot="10800000">
            <a:off x="2664000" y="3525840"/>
            <a:ext cx="149040" cy="4428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AutoShape 21"/>
          <p:cNvSpPr/>
          <p:nvPr/>
        </p:nvSpPr>
        <p:spPr>
          <a:xfrm flipH="1" rot="10800000">
            <a:off x="3964320" y="3525840"/>
            <a:ext cx="473400" cy="4428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22"/>
          <p:cNvSpPr/>
          <p:nvPr/>
        </p:nvSpPr>
        <p:spPr>
          <a:xfrm rot="10800000">
            <a:off x="5591160" y="3525840"/>
            <a:ext cx="582480" cy="55080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AutoShape 23"/>
          <p:cNvSpPr/>
          <p:nvPr/>
        </p:nvSpPr>
        <p:spPr>
          <a:xfrm flipH="1" rot="5400000">
            <a:off x="4849560" y="1605960"/>
            <a:ext cx="1847880" cy="310176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AutoShape 24"/>
          <p:cNvSpPr/>
          <p:nvPr/>
        </p:nvSpPr>
        <p:spPr>
          <a:xfrm rot="16200000">
            <a:off x="459360" y="2202120"/>
            <a:ext cx="2063880" cy="212544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Line 25"/>
          <p:cNvSpPr/>
          <p:nvPr/>
        </p:nvSpPr>
        <p:spPr>
          <a:xfrm flipV="1">
            <a:off x="3390120" y="2520720"/>
            <a:ext cx="1800" cy="1368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14" name="Group 26"/>
          <p:cNvGrpSpPr/>
          <p:nvPr/>
        </p:nvGrpSpPr>
        <p:grpSpPr>
          <a:xfrm>
            <a:off x="190440" y="5207040"/>
            <a:ext cx="1625760" cy="546120"/>
            <a:chOff x="190440" y="5207040"/>
            <a:chExt cx="1625760" cy="546120"/>
          </a:xfrm>
        </p:grpSpPr>
        <p:sp>
          <p:nvSpPr>
            <p:cNvPr id="415" name="Oval 27"/>
            <p:cNvSpPr/>
            <p:nvPr/>
          </p:nvSpPr>
          <p:spPr>
            <a:xfrm>
              <a:off x="190440" y="5207040"/>
              <a:ext cx="162576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6" name="Rectangle 28"/>
            <p:cNvSpPr/>
            <p:nvPr/>
          </p:nvSpPr>
          <p:spPr>
            <a:xfrm>
              <a:off x="641160" y="5313960"/>
              <a:ext cx="727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udi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17" name="Group 29"/>
          <p:cNvGrpSpPr/>
          <p:nvPr/>
        </p:nvGrpSpPr>
        <p:grpSpPr>
          <a:xfrm>
            <a:off x="5397480" y="5207040"/>
            <a:ext cx="1625760" cy="546120"/>
            <a:chOff x="5397480" y="5207040"/>
            <a:chExt cx="1625760" cy="546120"/>
          </a:xfrm>
        </p:grpSpPr>
        <p:sp>
          <p:nvSpPr>
            <p:cNvPr id="418" name="Oval 30"/>
            <p:cNvSpPr/>
            <p:nvPr/>
          </p:nvSpPr>
          <p:spPr>
            <a:xfrm>
              <a:off x="5397480" y="5207040"/>
              <a:ext cx="162576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9" name="Rectangle 31"/>
            <p:cNvSpPr/>
            <p:nvPr/>
          </p:nvSpPr>
          <p:spPr>
            <a:xfrm>
              <a:off x="5763960" y="5313960"/>
              <a:ext cx="885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Danie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20" name="Group 32"/>
          <p:cNvGrpSpPr/>
          <p:nvPr/>
        </p:nvGrpSpPr>
        <p:grpSpPr>
          <a:xfrm>
            <a:off x="2362320" y="5207040"/>
            <a:ext cx="1625400" cy="546120"/>
            <a:chOff x="2362320" y="5207040"/>
            <a:chExt cx="1625400" cy="546120"/>
          </a:xfrm>
        </p:grpSpPr>
        <p:sp>
          <p:nvSpPr>
            <p:cNvPr id="421" name="Oval 33"/>
            <p:cNvSpPr/>
            <p:nvPr/>
          </p:nvSpPr>
          <p:spPr>
            <a:xfrm>
              <a:off x="2362320" y="5207040"/>
              <a:ext cx="162540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2" name="Rectangle 34"/>
            <p:cNvSpPr/>
            <p:nvPr/>
          </p:nvSpPr>
          <p:spPr>
            <a:xfrm>
              <a:off x="2639160" y="5313960"/>
              <a:ext cx="1065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aphae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23" name="AutoShape 35"/>
          <p:cNvSpPr/>
          <p:nvPr/>
        </p:nvSpPr>
        <p:spPr>
          <a:xfrm rot="10800000">
            <a:off x="2095200" y="3605040"/>
            <a:ext cx="507960" cy="166392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Line 36"/>
          <p:cNvSpPr/>
          <p:nvPr/>
        </p:nvSpPr>
        <p:spPr>
          <a:xfrm flipV="1">
            <a:off x="1003320" y="4797000"/>
            <a:ext cx="1440" cy="392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AutoShape 37"/>
          <p:cNvSpPr/>
          <p:nvPr/>
        </p:nvSpPr>
        <p:spPr>
          <a:xfrm rot="10800000">
            <a:off x="5016240" y="3605040"/>
            <a:ext cx="615960" cy="166392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AutoShape 38"/>
          <p:cNvSpPr/>
          <p:nvPr/>
        </p:nvSpPr>
        <p:spPr>
          <a:xfrm rot="16200000">
            <a:off x="4575960" y="3672720"/>
            <a:ext cx="768240" cy="2424240"/>
          </a:xfrm>
          <a:prstGeom prst="pie">
            <a:avLst/>
          </a:prstGeom>
          <a:noFill/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AutoShape 39"/>
          <p:cNvSpPr/>
          <p:nvPr/>
        </p:nvSpPr>
        <p:spPr>
          <a:xfrm flipH="1" rot="10800000">
            <a:off x="2094480" y="2442960"/>
            <a:ext cx="723960" cy="579240"/>
          </a:xfrm>
          <a:prstGeom prst="pi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AutoShape 40"/>
          <p:cNvSpPr/>
          <p:nvPr/>
        </p:nvSpPr>
        <p:spPr>
          <a:xfrm rot="10800000">
            <a:off x="3965040" y="2442960"/>
            <a:ext cx="1049400" cy="579240"/>
          </a:xfrm>
          <a:prstGeom prst="pi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1"/>
          <p:cNvSpPr/>
          <p:nvPr/>
        </p:nvSpPr>
        <p:spPr>
          <a:xfrm flipV="1">
            <a:off x="8115480" y="3250800"/>
            <a:ext cx="1440" cy="544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Line 42"/>
          <p:cNvSpPr/>
          <p:nvPr/>
        </p:nvSpPr>
        <p:spPr>
          <a:xfrm flipV="1">
            <a:off x="8115480" y="3898440"/>
            <a:ext cx="1440" cy="544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Rectangle 43"/>
          <p:cNvSpPr/>
          <p:nvPr/>
        </p:nvSpPr>
        <p:spPr>
          <a:xfrm>
            <a:off x="8190000" y="3338640"/>
            <a:ext cx="122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ubClass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Rectangle 44"/>
          <p:cNvSpPr/>
          <p:nvPr/>
        </p:nvSpPr>
        <p:spPr>
          <a:xfrm>
            <a:off x="8184600" y="4076640"/>
            <a:ext cx="1895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Instanziieru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Rectangle 45"/>
          <p:cNvSpPr/>
          <p:nvPr/>
        </p:nvSpPr>
        <p:spPr>
          <a:xfrm>
            <a:off x="6885000" y="2247840"/>
            <a:ext cx="190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Klass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34" name="Group 46"/>
          <p:cNvGrpSpPr/>
          <p:nvPr/>
        </p:nvGrpSpPr>
        <p:grpSpPr>
          <a:xfrm>
            <a:off x="5219640" y="6464160"/>
            <a:ext cx="1955880" cy="546120"/>
            <a:chOff x="5219640" y="6464160"/>
            <a:chExt cx="1955880" cy="546120"/>
          </a:xfrm>
        </p:grpSpPr>
        <p:sp>
          <p:nvSpPr>
            <p:cNvPr id="435" name="Oval 47"/>
            <p:cNvSpPr/>
            <p:nvPr/>
          </p:nvSpPr>
          <p:spPr>
            <a:xfrm>
              <a:off x="5219640" y="6464160"/>
              <a:ext cx="195588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6" name="Rectangle 48"/>
            <p:cNvSpPr/>
            <p:nvPr/>
          </p:nvSpPr>
          <p:spPr>
            <a:xfrm>
              <a:off x="5606640" y="6571080"/>
              <a:ext cx="11786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rofess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37" name="Group 49"/>
          <p:cNvGrpSpPr/>
          <p:nvPr/>
        </p:nvGrpSpPr>
        <p:grpSpPr>
          <a:xfrm>
            <a:off x="5219640" y="7327800"/>
            <a:ext cx="1955880" cy="546120"/>
            <a:chOff x="5219640" y="7327800"/>
            <a:chExt cx="1955880" cy="546120"/>
          </a:xfrm>
        </p:grpSpPr>
        <p:sp>
          <p:nvSpPr>
            <p:cNvPr id="438" name="Oval 50"/>
            <p:cNvSpPr/>
            <p:nvPr/>
          </p:nvSpPr>
          <p:spPr>
            <a:xfrm>
              <a:off x="5219640" y="7327800"/>
              <a:ext cx="195588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9" name="Rectangle 51"/>
            <p:cNvSpPr/>
            <p:nvPr/>
          </p:nvSpPr>
          <p:spPr>
            <a:xfrm>
              <a:off x="5460480" y="7434720"/>
              <a:ext cx="1471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PhD-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0" name="Group 52"/>
          <p:cNvGrpSpPr/>
          <p:nvPr/>
        </p:nvGrpSpPr>
        <p:grpSpPr>
          <a:xfrm>
            <a:off x="7924680" y="5816520"/>
            <a:ext cx="1955880" cy="546120"/>
            <a:chOff x="7924680" y="5816520"/>
            <a:chExt cx="1955880" cy="546120"/>
          </a:xfrm>
        </p:grpSpPr>
        <p:sp>
          <p:nvSpPr>
            <p:cNvPr id="441" name="Oval 53"/>
            <p:cNvSpPr/>
            <p:nvPr/>
          </p:nvSpPr>
          <p:spPr>
            <a:xfrm>
              <a:off x="7924680" y="581652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2" name="Rectangle 54"/>
            <p:cNvSpPr/>
            <p:nvPr/>
          </p:nvSpPr>
          <p:spPr>
            <a:xfrm>
              <a:off x="8506800" y="5923440"/>
              <a:ext cx="796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ai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3" name="Group 55"/>
          <p:cNvGrpSpPr/>
          <p:nvPr/>
        </p:nvGrpSpPr>
        <p:grpSpPr>
          <a:xfrm>
            <a:off x="8039160" y="8953560"/>
            <a:ext cx="1955880" cy="546120"/>
            <a:chOff x="8039160" y="8953560"/>
            <a:chExt cx="1955880" cy="546120"/>
          </a:xfrm>
        </p:grpSpPr>
        <p:sp>
          <p:nvSpPr>
            <p:cNvPr id="444" name="Oval 56"/>
            <p:cNvSpPr/>
            <p:nvPr/>
          </p:nvSpPr>
          <p:spPr>
            <a:xfrm>
              <a:off x="8039160" y="895356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5" name="Rectangle 57"/>
            <p:cNvSpPr/>
            <p:nvPr/>
          </p:nvSpPr>
          <p:spPr>
            <a:xfrm>
              <a:off x="8372160" y="9060480"/>
              <a:ext cx="12823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upervise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6" name="Group 58"/>
          <p:cNvGrpSpPr/>
          <p:nvPr/>
        </p:nvGrpSpPr>
        <p:grpSpPr>
          <a:xfrm>
            <a:off x="8039160" y="6896160"/>
            <a:ext cx="1955880" cy="546120"/>
            <a:chOff x="8039160" y="6896160"/>
            <a:chExt cx="1955880" cy="546120"/>
          </a:xfrm>
        </p:grpSpPr>
        <p:sp>
          <p:nvSpPr>
            <p:cNvPr id="447" name="Oval 59"/>
            <p:cNvSpPr/>
            <p:nvPr/>
          </p:nvSpPr>
          <p:spPr>
            <a:xfrm>
              <a:off x="8039160" y="689616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8" name="Rectangle 60"/>
            <p:cNvSpPr/>
            <p:nvPr/>
          </p:nvSpPr>
          <p:spPr>
            <a:xfrm>
              <a:off x="8513640" y="7003080"/>
              <a:ext cx="1000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advises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49" name="Group 61"/>
          <p:cNvGrpSpPr/>
          <p:nvPr/>
        </p:nvGrpSpPr>
        <p:grpSpPr>
          <a:xfrm>
            <a:off x="5334120" y="8953560"/>
            <a:ext cx="1955520" cy="546120"/>
            <a:chOff x="5334120" y="8953560"/>
            <a:chExt cx="1955520" cy="546120"/>
          </a:xfrm>
        </p:grpSpPr>
        <p:sp>
          <p:nvSpPr>
            <p:cNvPr id="450" name="Oval 62"/>
            <p:cNvSpPr/>
            <p:nvPr/>
          </p:nvSpPr>
          <p:spPr>
            <a:xfrm>
              <a:off x="5334120" y="89535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1" name="Rectangle 63"/>
            <p:cNvSpPr/>
            <p:nvPr/>
          </p:nvSpPr>
          <p:spPr>
            <a:xfrm>
              <a:off x="5697360" y="906048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2" name="Group 64"/>
          <p:cNvGrpSpPr/>
          <p:nvPr/>
        </p:nvGrpSpPr>
        <p:grpSpPr>
          <a:xfrm>
            <a:off x="10858680" y="8953560"/>
            <a:ext cx="1955520" cy="546120"/>
            <a:chOff x="10858680" y="8953560"/>
            <a:chExt cx="1955520" cy="546120"/>
          </a:xfrm>
        </p:grpSpPr>
        <p:sp>
          <p:nvSpPr>
            <p:cNvPr id="453" name="Oval 65"/>
            <p:cNvSpPr/>
            <p:nvPr/>
          </p:nvSpPr>
          <p:spPr>
            <a:xfrm>
              <a:off x="10858680" y="89535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4" name="Rectangle 66"/>
            <p:cNvSpPr/>
            <p:nvPr/>
          </p:nvSpPr>
          <p:spPr>
            <a:xfrm>
              <a:off x="11224440" y="9060480"/>
              <a:ext cx="12139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Employee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5" name="Group 67"/>
          <p:cNvGrpSpPr/>
          <p:nvPr/>
        </p:nvGrpSpPr>
        <p:grpSpPr>
          <a:xfrm>
            <a:off x="10858680" y="5816520"/>
            <a:ext cx="1955520" cy="546120"/>
            <a:chOff x="10858680" y="5816520"/>
            <a:chExt cx="1955520" cy="546120"/>
          </a:xfrm>
        </p:grpSpPr>
        <p:sp>
          <p:nvSpPr>
            <p:cNvPr id="456" name="Oval 68"/>
            <p:cNvSpPr/>
            <p:nvPr/>
          </p:nvSpPr>
          <p:spPr>
            <a:xfrm>
              <a:off x="10858680" y="581652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7" name="Rectangle 69"/>
            <p:cNvSpPr/>
            <p:nvPr/>
          </p:nvSpPr>
          <p:spPr>
            <a:xfrm>
              <a:off x="11332440" y="5923440"/>
              <a:ext cx="997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df:Literal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58" name="Group 70"/>
          <p:cNvGrpSpPr/>
          <p:nvPr/>
        </p:nvGrpSpPr>
        <p:grpSpPr>
          <a:xfrm>
            <a:off x="10858680" y="6896160"/>
            <a:ext cx="1955520" cy="546120"/>
            <a:chOff x="10858680" y="6896160"/>
            <a:chExt cx="1955520" cy="546120"/>
          </a:xfrm>
        </p:grpSpPr>
        <p:sp>
          <p:nvSpPr>
            <p:cNvPr id="459" name="Oval 71"/>
            <p:cNvSpPr/>
            <p:nvPr/>
          </p:nvSpPr>
          <p:spPr>
            <a:xfrm>
              <a:off x="10858680" y="6896160"/>
              <a:ext cx="1955520" cy="54612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0" name="Rectangle 72"/>
            <p:cNvSpPr/>
            <p:nvPr/>
          </p:nvSpPr>
          <p:spPr>
            <a:xfrm>
              <a:off x="11326680" y="7003080"/>
              <a:ext cx="100944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Student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61" name="AutoShape 73"/>
          <p:cNvSpPr/>
          <p:nvPr/>
        </p:nvSpPr>
        <p:spPr>
          <a:xfrm rot="10800000">
            <a:off x="7191000" y="6730560"/>
            <a:ext cx="1133640" cy="220680"/>
          </a:xfrm>
          <a:prstGeom prst="pi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AutoShape 74"/>
          <p:cNvSpPr/>
          <p:nvPr/>
        </p:nvSpPr>
        <p:spPr>
          <a:xfrm flipH="1">
            <a:off x="7190640" y="7378560"/>
            <a:ext cx="1133640" cy="222480"/>
          </a:xfrm>
          <a:prstGeom prst="pi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Line 75"/>
          <p:cNvSpPr/>
          <p:nvPr/>
        </p:nvSpPr>
        <p:spPr>
          <a:xfrm>
            <a:off x="10009080" y="7162920"/>
            <a:ext cx="827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Line 76"/>
          <p:cNvSpPr/>
          <p:nvPr/>
        </p:nvSpPr>
        <p:spPr>
          <a:xfrm>
            <a:off x="9901080" y="6083280"/>
            <a:ext cx="935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Line 77"/>
          <p:cNvSpPr/>
          <p:nvPr/>
        </p:nvSpPr>
        <p:spPr>
          <a:xfrm>
            <a:off x="10009080" y="9232920"/>
            <a:ext cx="827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Line 78"/>
          <p:cNvSpPr/>
          <p:nvPr/>
        </p:nvSpPr>
        <p:spPr>
          <a:xfrm flipH="1">
            <a:off x="7299360" y="9232920"/>
            <a:ext cx="719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79"/>
          <p:cNvSpPr/>
          <p:nvPr/>
        </p:nvSpPr>
        <p:spPr>
          <a:xfrm>
            <a:off x="7364520" y="635004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Rectangle 80"/>
          <p:cNvSpPr/>
          <p:nvPr/>
        </p:nvSpPr>
        <p:spPr>
          <a:xfrm>
            <a:off x="7364520" y="754380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Rectangle 81"/>
          <p:cNvSpPr/>
          <p:nvPr/>
        </p:nvSpPr>
        <p:spPr>
          <a:xfrm>
            <a:off x="7148520" y="9385200"/>
            <a:ext cx="116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domai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Rectangle 82"/>
          <p:cNvSpPr/>
          <p:nvPr/>
        </p:nvSpPr>
        <p:spPr>
          <a:xfrm>
            <a:off x="9901080" y="618012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83"/>
          <p:cNvSpPr/>
          <p:nvPr/>
        </p:nvSpPr>
        <p:spPr>
          <a:xfrm>
            <a:off x="9966240" y="932328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84"/>
          <p:cNvSpPr/>
          <p:nvPr/>
        </p:nvSpPr>
        <p:spPr>
          <a:xfrm>
            <a:off x="9920160" y="6707160"/>
            <a:ext cx="100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ran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73" name="Group 85"/>
          <p:cNvGrpSpPr/>
          <p:nvPr/>
        </p:nvGrpSpPr>
        <p:grpSpPr>
          <a:xfrm>
            <a:off x="8039160" y="7975440"/>
            <a:ext cx="1955880" cy="546120"/>
            <a:chOff x="8039160" y="7975440"/>
            <a:chExt cx="1955880" cy="546120"/>
          </a:xfrm>
        </p:grpSpPr>
        <p:sp>
          <p:nvSpPr>
            <p:cNvPr id="474" name="Oval 86"/>
            <p:cNvSpPr/>
            <p:nvPr/>
          </p:nvSpPr>
          <p:spPr>
            <a:xfrm>
              <a:off x="8039160" y="7975440"/>
              <a:ext cx="1955880" cy="546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5" name="Rectangle 87"/>
            <p:cNvSpPr/>
            <p:nvPr/>
          </p:nvSpPr>
          <p:spPr>
            <a:xfrm>
              <a:off x="8164800" y="8094960"/>
              <a:ext cx="16984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5040" tIns="38160" bIns="3816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x:responsible_for</a:t>
              </a:r>
              <a:endParaRPr b="0" lang="en-US" sz="1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76" name="Line 88"/>
          <p:cNvSpPr/>
          <p:nvPr/>
        </p:nvSpPr>
        <p:spPr>
          <a:xfrm>
            <a:off x="9016920" y="7458120"/>
            <a:ext cx="1800" cy="50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Line 89"/>
          <p:cNvSpPr/>
          <p:nvPr/>
        </p:nvSpPr>
        <p:spPr>
          <a:xfrm flipV="1">
            <a:off x="9016200" y="8542080"/>
            <a:ext cx="1800" cy="392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Rectangle 90"/>
          <p:cNvSpPr/>
          <p:nvPr/>
        </p:nvSpPr>
        <p:spPr>
          <a:xfrm>
            <a:off x="9191160" y="7543800"/>
            <a:ext cx="18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subPropertyO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Rectangle 91"/>
          <p:cNvSpPr/>
          <p:nvPr/>
        </p:nvSpPr>
        <p:spPr>
          <a:xfrm>
            <a:off x="9191160" y="8564400"/>
            <a:ext cx="18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dfs:subPropertyO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Rectangle 92"/>
          <p:cNvSpPr/>
          <p:nvPr/>
        </p:nvSpPr>
        <p:spPr>
          <a:xfrm>
            <a:off x="2232720" y="7340760"/>
            <a:ext cx="2679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Relatione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Rectangle 93"/>
          <p:cNvSpPr/>
          <p:nvPr/>
        </p:nvSpPr>
        <p:spPr>
          <a:xfrm>
            <a:off x="1486080" y="304920"/>
            <a:ext cx="110487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S - einfache Ontologien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liennummernplatzhalter 3"/>
          <p:cNvSpPr/>
          <p:nvPr/>
        </p:nvSpPr>
        <p:spPr>
          <a:xfrm>
            <a:off x="12712680" y="942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537C-96ED-4109-80D0-82F74E6705AB}" type="slidenum"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 Schema als Ontologiesprache?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26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eeignet für 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orteil: automatisches Schlussfolgern ist relativ effizien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: für komplexere Modellierungen ungeeigne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3826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ückgriff auf mächtigere Sprachen, wi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W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782640" indent="-28584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F-Logik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5:30:16Z</dcterms:created>
  <dc:creator/>
  <dc:description/>
  <cp:keywords/>
  <dc:language>en-US</dc:language>
  <cp:lastModifiedBy>Sebastian Rudolph</cp:lastModifiedBy>
  <dcterms:modified xsi:type="dcterms:W3CDTF">2009-12-10T00:03:23Z</dcterms:modified>
  <cp:revision>9</cp:revision>
  <dc:subject/>
  <dc:title>Grundlagen Semantic Web</dc:title>
</cp:coreProperties>
</file>